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D76-F6F8-46D1-98C9-D80D0C28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8A7-96F5-4FEB-A0DA-747D1921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770B-C6D5-4309-8CDE-B769F9B4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200-0898-43D2-AC38-12E0C13B9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C3BB-A84A-49DF-B0A0-1617AB38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8763-D10B-475F-8C02-17F87435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86E1-168E-412F-AF95-1531A6BB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7B79-748B-4BDB-853A-EB825493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875-6DDB-4FC2-940B-678B6BED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1E7-9D65-41C2-ADD0-5F743404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9AF-998E-4274-A7E6-7DE4F6CF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DD8-72CA-4D20-A42F-BD36E425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4FB5-13A6-4FA1-8066-5B35E3FB58B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كل على الله تعالى والثقة به جل وعل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2205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في أوقاتها وأدائها كاملة بشروطها وواجباتها مع استحضار القلب وخشوع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كبر علامات خشي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يحجز صاحبه عن فعل الذنوب و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9720" cy="424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6156360" y="285264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ذكر الله وجلت قلوبه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05928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تليت عليهم آياته زادتهم إيمانا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ربهم يتوكل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6084720" y="422100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الصلا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987640" y="4373640"/>
            <a:ext cx="234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ما رزقهم الله ينفق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50920" y="995400"/>
            <a:ext cx="8532720" cy="552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250920" y="2133720"/>
            <a:ext cx="66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وقعت في (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 ) سنة (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للهجر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3500280"/>
            <a:ext cx="66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ترجاع المسلمين لأموالهم التي نهبها كفار قريش من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71280" y="4653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عدد المسلم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1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 عدد المشرك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000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1619280" y="5877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تصار المسلمين وهزيمة المشرك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813888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23920" y="580536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لف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ب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تفا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284120" y="1052640"/>
            <a:ext cx="7631280" cy="58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1081080" y="3213000"/>
            <a:ext cx="783432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5"/>
          <a:stretch/>
        </p:blipFill>
        <p:spPr>
          <a:xfrm>
            <a:off x="2793960" y="5229360"/>
            <a:ext cx="612144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03040" y="1628640"/>
            <a:ext cx="8691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لاوة الآي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ذكر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وكل على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16000" y="3860640"/>
            <a:ext cx="8691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من التوكل الأخذ بالأسبا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96"/>
          <a:stretch/>
        </p:blipFill>
        <p:spPr>
          <a:xfrm>
            <a:off x="250920" y="1998720"/>
            <a:ext cx="862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822320"/>
            <a:ext cx="869004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60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8760" y="1197000"/>
            <a:ext cx="8825040" cy="157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8028000" y="186516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250920" y="2430360"/>
            <a:ext cx="8642160" cy="42386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ازل في الجن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9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1052640"/>
            <a:ext cx="8665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كر عبادة بن الصامت أنه في غزوة بدر اختلفوا في النفل فقسمه رسول الله بين المسلمين سواس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539640" y="958680"/>
            <a:ext cx="5688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شريع حق خاص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لرسو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2205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صلاح ذات ال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أن يكون المؤمنون إخوة متحا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طاعة الله ورسو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3700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ا وقر في القلب وصدقته الأعم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157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ز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طاع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5877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نقص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